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AA2-BB8D-4B59-98D0-478096AA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8DD-2BEF-4FB1-BA0B-CFC4D426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CE3-833B-4AD6-A18D-32BA63F7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A05-BFA6-491F-B1AF-FE2CA059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1776-2C1E-4839-8561-EDFE4B2F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12A2-719E-424F-AE4A-CA5C7AC5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B7A6-15E0-4DB1-8959-904E9644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6223-CFE9-499C-B3B4-7D2A0643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3254-C995-4F5E-B764-840E7AC8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54C6-F76B-4491-81A6-EA41B7E7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4BA5-7C4C-4A5C-BC72-5B4C7835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4F7-4C82-45A1-8301-69E67DFB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2CD6-2BA6-470B-9C14-A5853A85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D077-B1FF-4542-B7B7-72FC66E8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5B51-4A4E-40B9-AF5D-0032DACD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59F2-2F73-4EED-9174-2F19BC95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E858-0FB6-42F4-8C11-C2D34AE5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9E0B-BD95-49A6-B05B-7A9911F9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B1A8-0D96-488D-8E04-94B1CEA2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97FC9-F453-47C1-AC7F-C9ED9DA9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EE75-A4B6-4A73-B67C-3CECA5BE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95847-018A-4FDF-8B44-A0BA34AF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F5A-BDD4-493C-B2DC-3F2D03C8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53FB-318F-4A8C-8BD9-9F5ADF15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1B9E-565A-4B6F-BB5E-A90FAA7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9FBB-6EED-4093-91E5-9243003D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527A8-971F-4971-90C9-FBD81DE0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99F40-9566-4830-8EB4-5E71A45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2F43-55C3-4A96-89AF-D834F1A6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EA7A-1130-46B3-98CD-59A0D206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06F73-4CAD-4857-9FB7-A01C2003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5F329-20F6-4A82-A01B-15424E0D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E955D-D4C9-403D-8D13-C79DFC4F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A67-0EA7-461E-A6F7-EFBE8163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28BF2-A8F0-40E7-A5FC-A6E809A2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25FBB-48FF-40D3-9322-B2F4F026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173F6-012B-4214-8E77-D7B9E968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6F858-9EC4-40A2-9CD2-F55EA251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F920A-73E6-4B71-897C-A66165F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53D2-4A5A-42CC-9427-4034D622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01D4-A024-4009-8CC2-0A076515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69046-79D4-4197-B152-7634385A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E059D-D28D-4E68-9745-C58F684F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7FBD6-E46C-426E-8EE5-1DAC961D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308-80BA-4DCF-8E59-D3536CB6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1090E-BA1F-4822-A139-878E090F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5AB4C-8466-41BB-B8F1-5FF3850A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4A8A1-0A97-4E8F-9995-482D5CB9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7B14F-AF26-4C66-B078-3A12E30B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863C3-C456-4230-9C66-95B314D3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F5213-7C7D-481A-A810-9B5E815C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A2DA9-07DF-4CF4-B00A-926181D8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4623-B5C0-4251-845B-545A9DFF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F6D4B-84B2-4E9D-9416-7E6C898E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5D528-963C-4531-9032-219B0C03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DF2-6D9E-4245-A717-2E46968B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F1A3D-35FF-44EC-A781-E282A3E8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5B0F6-E949-4919-9432-B35EDC50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D0F7A-5D82-4E23-AE5A-B0E99EA6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EC66B-0820-4DE6-9219-95BB4C4A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46A2F-8883-4296-B588-4165C40E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FC40D-CDAF-493A-B5F5-48FEC6C9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9ED8-F3E3-4F73-981D-8619A966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BAF1A-1A9C-4D47-8A2B-43A7830C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E651E-8FC0-4D44-8D3E-00D1381A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853B2-5102-4699-9B1F-830A041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54F-A452-4AC4-9DBB-A9DAE788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9C94A-83C4-4424-95A0-AA255DB4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89979-0A9A-43BF-8B57-1447B67E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BE888-AFA1-43DF-A96A-F6BFF2EE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8C475-1009-4128-AF5A-919B8A93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EA2A6-C867-49E5-BFC4-21ABFED9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5D4E0-5460-4F37-BB27-631F914E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FF394-6CCB-4538-A6F0-3C5A8832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34691-BAFD-4DA3-85FF-CAD4A578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96274-51DB-4817-9176-BCE199EF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1469F-3292-4A0E-9FD7-A013D8C2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168-45E2-4BCD-9731-EAEEF015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4775C-152F-4128-B4BE-CE796487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E9BC6-DB58-458D-BC40-9FAC1C93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594A7-11B7-4C2C-B3D1-5F7A2C73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4F02A-E29B-4F38-ADD9-2B48C301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3A357-82BD-4EF1-B0E1-E0E03872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F3C-43B1-4AB5-883E-6C74BD71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199F-F360-43E1-921C-C6A916E1251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29B7-DD0D-4BD0-90C0-A22A2BACD0A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ADE2-5477-4BEF-99BA-B462BF83E9F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E052-7788-40FA-94FA-DBB297CDCA2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E03E-579A-46DE-8F46-7639A6F8A0A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FD6B-A1F7-46ED-B1C6-9AF18F64707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5731-8D62-4A35-AF50-BCB3471F3E7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" descr="http://isurvived.org/Pictures_iSurvived-5/auschwitz-birkenau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2"/>
          <p:cNvSpPr/>
          <p:nvPr/>
        </p:nvSpPr>
        <p:spPr>
          <a:xfrm>
            <a:off x="2743200" y="4800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Opening gates to Auschwi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2362320" y="304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Concentration Camp Gu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0" y="565776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ylor Kitt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Harm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n Gil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Bl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" descr="http://uczyc-sie-z-historii.pl/user/photo/Projekty/Kop%20tam%20gdzie%20stoisz/mw-camps1944.JPG"/>
          <p:cNvPicPr/>
          <p:nvPr/>
        </p:nvPicPr>
        <p:blipFill>
          <a:blip r:embed="rId1"/>
          <a:stretch/>
        </p:blipFill>
        <p:spPr>
          <a:xfrm>
            <a:off x="5181480" y="5029200"/>
            <a:ext cx="2548080" cy="13716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6"/>
          <p:cNvSpPr/>
          <p:nvPr/>
        </p:nvSpPr>
        <p:spPr>
          <a:xfrm>
            <a:off x="4952880" y="5638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http://upload.wikimedia.org/wikipedia/commons/7/7e/Second_world_war_europe_1941-1942_map_e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Box 5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lue shows the German adv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http://www.mapsorama.com/maps/europe/Holocaust-Europe.jpg"/>
          <p:cNvPicPr/>
          <p:nvPr/>
        </p:nvPicPr>
        <p:blipFill>
          <a:blip r:embed="rId1"/>
          <a:stretch/>
        </p:blipFill>
        <p:spPr>
          <a:xfrm>
            <a:off x="0" y="0"/>
            <a:ext cx="9325080" cy="7763040"/>
          </a:xfrm>
          <a:prstGeom prst="rect">
            <a:avLst/>
          </a:prstGeom>
          <a:ln w="0">
            <a:noFill/>
          </a:ln>
        </p:spPr>
      </p:pic>
      <p:sp>
        <p:nvSpPr>
          <p:cNvPr id="312" name="Up Arrow 2"/>
          <p:cNvSpPr/>
          <p:nvPr/>
        </p:nvSpPr>
        <p:spPr>
          <a:xfrm>
            <a:off x="5410080" y="4114800"/>
            <a:ext cx="457200" cy="76212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dddddd"/>
          </a:solidFill>
          <a:ln w="478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http://newsimg.bbc.co.uk/shared/img/o.gif"/>
          <p:cNvPicPr/>
          <p:nvPr/>
        </p:nvPicPr>
        <p:blipFill>
          <a:blip r:embed="rId1"/>
          <a:stretch/>
        </p:blipFill>
        <p:spPr>
          <a:xfrm>
            <a:off x="0" y="0"/>
            <a:ext cx="19080" cy="19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http://newsimg.bbc.co.uk/nol/shared/img/v3/dot_629.gif"/>
          <p:cNvPicPr/>
          <p:nvPr/>
        </p:nvPicPr>
        <p:blipFill>
          <a:blip r:embed="rId2"/>
          <a:stretch/>
        </p:blipFill>
        <p:spPr>
          <a:xfrm>
            <a:off x="0" y="0"/>
            <a:ext cx="5991120" cy="9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http://newsimg.bbc.co.uk/nol/shared/img/v3/email.gif"/>
          <p:cNvPicPr/>
          <p:nvPr/>
        </p:nvPicPr>
        <p:blipFill>
          <a:blip r:embed="rId3"/>
          <a:stretch/>
        </p:blipFill>
        <p:spPr>
          <a:xfrm>
            <a:off x="0" y="0"/>
            <a:ext cx="162000" cy="104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http://isurvived.org/Pictures_iSurvived-4/frolic2-ss-guards.GIF"/>
          <p:cNvPicPr/>
          <p:nvPr/>
        </p:nvPicPr>
        <p:blipFill>
          <a:blip r:embed="rId4"/>
          <a:stretch/>
        </p:blipFill>
        <p:spPr>
          <a:xfrm>
            <a:off x="2971800" y="0"/>
            <a:ext cx="6172200" cy="4092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Auschwitz SS guards during a lunch break "/>
          <p:cNvPicPr/>
          <p:nvPr/>
        </p:nvPicPr>
        <p:blipFill>
          <a:blip r:embed="rId5"/>
          <a:stretch/>
        </p:blipFill>
        <p:spPr>
          <a:xfrm>
            <a:off x="0" y="4038480"/>
            <a:ext cx="5086440" cy="28195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4"/>
          <p:cNvSpPr/>
          <p:nvPr/>
        </p:nvSpPr>
        <p:spPr>
          <a:xfrm>
            <a:off x="0" y="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German officers enjoyed spending time with their girlfriends/ wives who often stayed with them at the cam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5"/>
          <p:cNvSpPr/>
          <p:nvPr/>
        </p:nvSpPr>
        <p:spPr>
          <a:xfrm>
            <a:off x="5105520" y="4038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Officers enjoying a pause in the selecting and gas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http://www.spiegel.de/img/0,1020,973119,00.jpg"/>
          <p:cNvPicPr/>
          <p:nvPr/>
        </p:nvPicPr>
        <p:blipFill>
          <a:blip r:embed="rId1"/>
          <a:stretch/>
        </p:blipFill>
        <p:spPr>
          <a:xfrm>
            <a:off x="609480" y="914400"/>
            <a:ext cx="7829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Karl Hoecker with SS physicians"/>
          <p:cNvPicPr/>
          <p:nvPr/>
        </p:nvPicPr>
        <p:blipFill>
          <a:blip r:embed="rId1"/>
          <a:stretch/>
        </p:blipFill>
        <p:spPr>
          <a:xfrm>
            <a:off x="0" y="0"/>
            <a:ext cx="6400800" cy="3809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http://www.spiegel.de/img/0,1020,973117,00.jpg"/>
          <p:cNvPicPr/>
          <p:nvPr/>
        </p:nvPicPr>
        <p:blipFill>
          <a:blip r:embed="rId2"/>
          <a:stretch/>
        </p:blipFill>
        <p:spPr>
          <a:xfrm>
            <a:off x="2819520" y="3809880"/>
            <a:ext cx="6324480" cy="30481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6"/>
          <p:cNvSpPr/>
          <p:nvPr/>
        </p:nvSpPr>
        <p:spPr>
          <a:xfrm>
            <a:off x="6477120" y="144792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Solahütte retreat was used to provide a relaxing atmosphere for SS officers working at the Nazi death camp at Auschwitz, where more than 1 million Jews were murde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www.spiegel.de/img/0,1020,973114,00.jpg"/>
          <p:cNvPicPr/>
          <p:nvPr/>
        </p:nvPicPr>
        <p:blipFill>
          <a:blip r:embed="rId1"/>
          <a:stretch/>
        </p:blipFill>
        <p:spPr>
          <a:xfrm>
            <a:off x="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7696080" y="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S officers singing to relieve 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http://farm5.static.flickr.com/4056/4362792014_ec5299dbda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0" y="14479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orbel"/>
              </a:rPr>
              <a:t>Laughing at Auschwitz</a:t>
            </a:r>
            <a:r>
              <a:rPr b="0" lang="de-DE" sz="1800" spc="-1" strike="noStrike">
                <a:solidFill>
                  <a:srgbClr val="000000"/>
                </a:solidFill>
                <a:latin typeface="Corbel"/>
              </a:rPr>
              <a:t>. Spiegel Online, 24 Sept. 07. Web. 17 Feb. 10. &lt;http://www.spiegel.de/international/0,1518,507434,00.html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28954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"File:Second world war europe 1941-1942 map en.png."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ikipedia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. Web. 17 Feb. 2010. &lt;http://http://en.wikipedia.org/wiki/World_War_II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3501741077_6beafcba48"/>
          <p:cNvPicPr/>
          <p:nvPr/>
        </p:nvPicPr>
        <p:blipFill>
          <a:blip r:embed="rId2"/>
          <a:stretch/>
        </p:blipFill>
        <p:spPr>
          <a:xfrm>
            <a:off x="5486400" y="3962520"/>
            <a:ext cx="3352680" cy="23335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5"/>
          <p:cNvSpPr/>
          <p:nvPr/>
        </p:nvSpPr>
        <p:spPr>
          <a:xfrm>
            <a:off x="5410080" y="63244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5:29:17Z</dcterms:created>
  <dc:creator>Information Technology</dc:creator>
  <dc:description/>
  <dc:language>en-US</dc:language>
  <cp:lastModifiedBy>Information Technology</cp:lastModifiedBy>
  <dcterms:modified xsi:type="dcterms:W3CDTF">2010-02-18T15:52:37Z</dcterms:modified>
  <cp:revision>22</cp:revision>
  <dc:subject/>
  <dc:title>Slide 1</dc:title>
</cp:coreProperties>
</file>